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1DA-FE9E-451B-96F1-26B10150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33D0-0DD8-4C24-B0C8-C387B0DC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9DA-9493-43B2-99D8-74C5330C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4317-5948-4518-A067-CAEEE433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3446-57A1-4B8E-A154-7478C247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E678-2BCC-4F45-8B1F-6B2FF212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0670-92C3-472E-B6D2-0A3BFA0D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D7D-3963-4066-B1AB-03B970B2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AE6-AEE7-4E00-AF9F-2283EE0E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D5EC-90CC-499A-A55B-0F928073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CE8-4411-4FEA-BF2B-D5DC8AFB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365-86F8-4F1F-B614-CA9375A5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D203-1049-4E70-85EA-41DE5E92B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dvisplp.wikispaces.com/Haverford+School" TargetMode="External"/><Relationship Id="rId2" Type="http://schemas.openxmlformats.org/officeDocument/2006/relationships/hyperlink" Target="http://advisplp.wikispaces.com/Haverford+School" TargetMode="External"/><Relationship Id="rId3" Type="http://schemas.openxmlformats.org/officeDocument/2006/relationships/hyperlink" Target="http://advisplp.wikispaces.com/Haverford+School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averford Schoo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9 PLP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14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don’t think your way into a new kind of living; you live your way into a new kind of think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ker Pal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 literacies into curricul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Project-bas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 that we are all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at each of us learns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Faculty and Staff on the nature of a “Learning Commun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 learning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, that in meeting these goals, we are changing the culture of th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LP team member will mentor 3 Haverford teachers, Fall 2009, with assistance of PLP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3 teachers in turn will mentor 3  Haverford teachers, Spring 2010, with assistance of PLP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culture of th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 teaching an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/20 rule – 80% go on to men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um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ric for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DVIS PLP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not – our project is not here  (our reflections on the process are there; the project will b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 Not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to Admin Counc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um Map – PLP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rford Ning (already 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791320" y="4038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oogle Notebook -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Take Aways from P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ossible to create an online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, who are more experienced and knowledgeable, want to share their knowledge with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ility is a good thing; it’s the basis for a “learning postur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 personal learning network is f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stop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-long embedded PD is transform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76720" y="3048120"/>
            <a:ext cx="2666880" cy="243828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 Picture Overvie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P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2438280"/>
            <a:ext cx="160020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4648320"/>
            <a:ext cx="16002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4572000"/>
            <a:ext cx="16002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ury Tools and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580920" y="3505320"/>
            <a:ext cx="76212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3505320"/>
            <a:ext cx="761760" cy="1447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796920" y="54864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ing our teachers to become lea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ing our students meaningful learning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an understanding that learning is a shar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aging all members of the community to become life-long lea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ing transparency and an openness in the process that creates a safe environment for risk-taking, questioning, and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and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facility with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ools to teach 2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lt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lea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a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to un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-bas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 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cy of process to achieve alignment with all constituencies (Administrative team, Trustees, Parents, Teachers, Staff, Stud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al sh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Community of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PLN with each particip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e with other schools (Shipley?) to “build out” the learning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Tools and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ech training with emphasis on applications of tools to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students are learning to use th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-izing the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 faculty to introduce tools and skills in thei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curriculum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mapping P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143000" y="152280"/>
          <a:ext cx="7056360" cy="674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2280"/>
                    <a:ext cx="7056360" cy="67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676520" y="228600"/>
          <a:ext cx="5905440" cy="643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8600"/>
                    <a:ext cx="5905440" cy="643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85720" y="961920"/>
          <a:ext cx="7974000" cy="493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961920"/>
                    <a:ext cx="797400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9:05:48Z</dcterms:created>
  <dc:creator>Megan Connolly</dc:creator>
  <dc:description/>
  <dc:language>en-US</dc:language>
  <cp:lastModifiedBy>Megan Connolly</cp:lastModifiedBy>
  <dcterms:modified xsi:type="dcterms:W3CDTF">2009-03-10T14:01:27Z</dcterms:modified>
  <cp:revision>6</cp:revision>
  <dc:subject/>
  <dc:title>The Haverford School 2009 PLP Project</dc:title>
</cp:coreProperties>
</file>